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ng" ContentType="image/png"/>
  <Override PartName="/ppt/media/image4.jpeg" ContentType="image/jpeg"/>
  <Override PartName="/ppt/media/image5.gif" ContentType="image/gif"/>
  <Override PartName="/ppt/media/image6.gif" ContentType="image/gi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D056-15EE-4FEC-B9D3-FFBE8172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4DDE-41A9-4437-B313-5637AE95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0013-6242-407D-AD85-FC7B4BF7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7D57-6DC6-4410-8E55-46C84C0E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3BD4-795E-4F2E-B609-F773DB24E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2C65-96BD-4F28-859D-EAB92759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D95D-5FE4-4752-847C-D11B05B1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5366-CAC0-4750-AC15-82120D57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2EEB-AC7A-443A-8716-1547EF7B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6A7C-0647-47BC-94FD-50793460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5E5D-5FB0-4CF5-BE18-B1528FBA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3C3F-C05E-433E-AF7C-2B8ECBED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20F8-5E22-449E-9D70-C5BBAE53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622F-8FD1-4BC0-88F2-54567800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7872-FFED-4F23-9B76-788B1A38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A9C3-92B6-429A-A75C-AFC92F1F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23FB-11B4-4AF3-9314-0B01789F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44B8-387B-4510-8DAB-A7683EC7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60F9-0812-47E7-AEF9-01978B80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0E1A-6F86-437A-98D9-F8A59A6A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C2D9-2333-4A5F-A458-ECDBE034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2071-83CD-4CDF-8AB2-E1BE8BA3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3C20-F96A-43F8-AAD3-D7AD4DF9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0969-D360-4FB8-8707-5FB3A594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CA2F-0DA4-4064-BFA4-F98F902E8B2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C1DE-72BA-4445-A55C-59E97868FF5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elcom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ared’s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Grade Spring Conferenc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rch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9, 2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172200" y="1143000"/>
            <a:ext cx="2654280" cy="2013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5440" y="2590920"/>
            <a:ext cx="3809880" cy="3504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 you for coming!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ny questions?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93640" y="533520"/>
            <a:ext cx="1451160" cy="5181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010280" y="5335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858000" y="2971800"/>
            <a:ext cx="56988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Read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8001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ing skills I have worked on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per Grammar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pell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ading fluently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favorite books I’ve read in clas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he Day My Butt Went  Psycho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he Landry New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Zombie Butts From Uranu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Math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716256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th skills that I have worked on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re knowing multiplicat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acts higher than 12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Long division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favorite activity to do in math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ath Olympiad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Big project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cience and Social Studi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28195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ci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aking  and building circuits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Going to U L  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aking  terrariums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cial Studi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U.S maps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outheast Region  map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Writ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reative writing  on lap tops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Journal topic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riting perfect gramma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tory starter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mic strips writin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8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8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favorite experience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5440" y="2362320"/>
            <a:ext cx="3809880" cy="3504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2057040"/>
            <a:ext cx="4495680" cy="3505320"/>
          </a:xfrm>
          <a:prstGeom prst="rect">
            <a:avLst/>
          </a:prstGeom>
          <a:noFill/>
          <a:ln w="0">
            <a:noFill/>
          </a:ln>
          <a:effectLst>
            <a:outerShdw dist="38251" dir="3297828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eld  trip to U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guring out the answers for the quiz boards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aking terrarium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21600" y="1924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5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’m good at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pelling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ading book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yping stori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ath 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2362320"/>
            <a:ext cx="716256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7" dur="1" fill="hold"/>
                                  <p:tgtEl>
                                    <p:spTgt spid="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29492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 need to work on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23623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rammar chec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and writing in cursi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ading slower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58800" y="23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Goals for the next three month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 will listen to the teacher better by not talking in clas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 will make my cursive better by writing more work in cursiv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 will read slower by reading one word at a time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7:13:09Z</dcterms:created>
  <dc:creator>NSSD112</dc:creator>
  <dc:description/>
  <dc:language>en-US</dc:language>
  <cp:lastModifiedBy>nssd112</cp:lastModifiedBy>
  <dcterms:modified xsi:type="dcterms:W3CDTF">2009-06-04T15:32:59Z</dcterms:modified>
  <cp:revision>29</cp:revision>
  <dc:subject/>
  <dc:title>Welcome Mom and Dad!</dc:title>
</cp:coreProperties>
</file>